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68C-EA75-4F0A-8A50-FE1C80F8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02F-4A7F-4C8B-9FF7-D08BF27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490-1C70-40DE-8278-369C9155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574-F66D-4E39-B312-F28FB770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9E8-3EF9-4781-AD9B-EF1EC058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8F8-BB7D-44B3-89DB-858148EA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7A2-C787-441E-98CF-FCB572E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04A-2797-4768-B28F-015DCBC0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B22-C57E-4B9A-9887-E5F9B42E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7CB-4E45-4DC5-A323-52CDF53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068-58FB-407C-9FFA-7296046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0D0-FC9D-44DB-B8AD-8E5F78B9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4AB-F618-4550-ADF2-9636B373017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6 Ja chcem ti, Pane, slávu vzd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chcem ti, Pane, slávu vzd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chválu v tento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dôkaz, že ma miluj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dal si mnoho 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vďaka ti za schopn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od teba som vz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eba nimi veleb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Spasiteľ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sluhom tvojím,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slúžiť ľuďom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pomôž radosť šíriť vžd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ť podľa tvojich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bez teba som úboh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č nedokážem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stále verne pri mne 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prosbu k tebe m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11:44Z</dcterms:modified>
  <cp:revision>50</cp:revision>
  <dc:subject/>
  <dc:title>Je veľký náš Pán, on slávy je Kráľ Nech do všetkých strán  spev vrúcnych znie chvál.</dc:title>
</cp:coreProperties>
</file>